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127-7040-4C6E-8D8E-A90C0385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AF1-CFCC-4C06-850B-4DCF1EF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2DD-6DC6-457E-990D-9108422B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121-4491-4AC8-8907-984EB5B6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73ED-81BB-42EF-A73F-2B21364A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037A-D30B-4484-9A51-63A6A6A3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EA2A-6F26-4924-A38B-E788C576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2DD4-E3A9-4283-A119-D09F995F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48DC-ACB1-4D82-B97A-CC7449A3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6C83-DB58-4318-AFB3-E16927B5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CCC2-E29B-41C1-8CA3-17ED06D0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453-14DB-4176-AA4A-E82E139A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F28F-DD79-4DA9-9C16-B593C397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FD4F-B649-46D3-9A1D-9BC8B54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147D-738E-4691-996C-24B1366B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E54F-1510-48B7-BCB3-731A82D8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9A2D-B2D6-4C1F-AE6B-3429A3DE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094-277A-4227-9A5A-CFAADA71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2D6-A3EE-4258-9301-1150DFC6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6BF-6551-4704-80DD-4A2BFA9E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421-315E-4A13-B83A-E9BE6D2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70A-27A0-476B-B510-1F34B113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04A-99FB-4453-972C-C3E58B90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0C7-6B25-47FF-89F3-BBA3FE24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792C-BFC0-4785-8754-E65E800E4543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1390-5F46-4286-9907-44EFBA1CD133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hyperlink" Target="http://languagearts.pppst.com/cause-effect.html" TargetMode="External"/><Relationship Id="rId2" Type="http://schemas.openxmlformats.org/officeDocument/2006/relationships/hyperlink" Target="http://languagearts.pppst.com/compoundwords.html" TargetMode="External"/><Relationship Id="rId3" Type="http://schemas.openxmlformats.org/officeDocument/2006/relationships/hyperlink" Target="http://www.pbs.org/wonders/Kids/kids.htm" TargetMode="External"/><Relationship Id="rId4" Type="http://schemas.openxmlformats.org/officeDocument/2006/relationships/hyperlink" Target="http://www.pbs.org/wonders/Kids/kids.htm" TargetMode="External"/><Relationship Id="rId5" Type="http://schemas.openxmlformats.org/officeDocument/2006/relationships/hyperlink" Target="http://www.pbs.org/wonders/Kids/kids.htm" TargetMode="External"/><Relationship Id="rId6" Type="http://schemas.openxmlformats.org/officeDocument/2006/relationships/hyperlink" Target="http://www.pbs.org/wonders/Kids/kids.htm" TargetMode="External"/><Relationship Id="rId7" Type="http://schemas.openxmlformats.org/officeDocument/2006/relationships/hyperlink" Target="http://streaming.discoveryeducation.com/search/assetDetail.cfm?guidAssetID=4F58C801-375D-4CAF-AB2D-169D97CD1B0D" TargetMode="External"/><Relationship Id="rId8" Type="http://schemas.openxmlformats.org/officeDocument/2006/relationships/hyperlink" Target="http://www.manythings.org/wbg/opposites_2-jw.html" TargetMode="External"/><Relationship Id="rId9" Type="http://schemas.openxmlformats.org/officeDocument/2006/relationships/hyperlink" Target="http://www.manythings.org/wbg/opposites_2-jw.html" TargetMode="External"/><Relationship Id="rId10" Type="http://schemas.openxmlformats.org/officeDocument/2006/relationships/hyperlink" Target="http://www.cogcon.com/gamegoo/games/squanky/squanky.html" TargetMode="External"/><Relationship Id="rId11" Type="http://schemas.openxmlformats.org/officeDocument/2006/relationships/hyperlink" Target="http://www.cogcon.com/gamegoo/games/squanky/squanky.html" TargetMode="External"/><Relationship Id="rId12" Type="http://schemas.openxmlformats.org/officeDocument/2006/relationships/hyperlink" Target="http://www.cogcon.com/gamegoo/games/squanky/squanky.html" TargetMode="External"/><Relationship Id="rId13" Type="http://schemas.openxmlformats.org/officeDocument/2006/relationships/hyperlink" Target="http://www.cogcon.com/gamegoo/games/squanky/squanky.html" TargetMode="External"/><Relationship Id="rId14" Type="http://schemas.openxmlformats.org/officeDocument/2006/relationships/hyperlink" Target="http://www.cogcon.com/gamegoo/games/squanky/squanky.html" TargetMode="External"/><Relationship Id="rId15" Type="http://schemas.openxmlformats.org/officeDocument/2006/relationships/hyperlink" Target="http://www.cogcon.com/gamegoo/games/squanky/squanky.html" TargetMode="External"/><Relationship Id="rId16" Type="http://schemas.openxmlformats.org/officeDocument/2006/relationships/hyperlink" Target="http://www.cogcon.com/gamegoo/games/squanky/squanky.html" TargetMode="External"/><Relationship Id="rId17" Type="http://schemas.openxmlformats.org/officeDocument/2006/relationships/hyperlink" Target="http://www.kidport.com/Grade2/LanguageArts/Compounds.htm" TargetMode="External"/><Relationship Id="rId18" Type="http://schemas.openxmlformats.org/officeDocument/2006/relationships/hyperlink" Target="http://www.mrsmcgowan.com/quiz/compoundwords.htm" TargetMode="External"/><Relationship Id="rId19" Type="http://schemas.openxmlformats.org/officeDocument/2006/relationships/hyperlink" Target="http://www.mrsmcgowan.com/quiz/compoundwords.htm" TargetMode="External"/><Relationship Id="rId20" Type="http://schemas.openxmlformats.org/officeDocument/2006/relationships/hyperlink" Target="http://www.mrsmcgowan.com/quiz/compoundwords.htm" TargetMode="External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http://www.mrsmcgowan.com/quiz/compoundwords.htm" TargetMode="External"/><Relationship Id="rId2" Type="http://schemas.openxmlformats.org/officeDocument/2006/relationships/hyperlink" Target="http://www.mrsmcgowan.com/quiz/compoundwords1.htm" TargetMode="External"/><Relationship Id="rId3" Type="http://schemas.openxmlformats.org/officeDocument/2006/relationships/hyperlink" Target="http://www.getreadytoread.org/games/game3/shell.html" TargetMode="External"/><Relationship Id="rId4" Type="http://schemas.openxmlformats.org/officeDocument/2006/relationships/hyperlink" Target="http://www.getreadytoread.org/games/game3/shell.html" TargetMode="External"/><Relationship Id="rId5" Type="http://schemas.openxmlformats.org/officeDocument/2006/relationships/hyperlink" Target="http://www.getreadytoread.org/games/game3/shell.html" TargetMode="External"/><Relationship Id="rId6" Type="http://schemas.openxmlformats.org/officeDocument/2006/relationships/hyperlink" Target="http://www.getreadytoread.org/games/game3/shell.html" TargetMode="External"/><Relationship Id="rId7" Type="http://schemas.openxmlformats.org/officeDocument/2006/relationships/hyperlink" Target="http://www.getreadytoread.org/games/game3/shell.html" TargetMode="External"/><Relationship Id="rId8" Type="http://schemas.openxmlformats.org/officeDocument/2006/relationships/hyperlink" Target="http://www.brainpop.com/science/diversityoflife/spiders/" TargetMode="External"/><Relationship Id="rId9" Type="http://schemas.openxmlformats.org/officeDocument/2006/relationships/hyperlink" Target="http://www.brainpop.com/science/diversityoflife/spiders/" TargetMode="External"/><Relationship Id="rId10" Type="http://schemas.openxmlformats.org/officeDocument/2006/relationships/hyperlink" Target="http://www.mrsmcgowan.com/quiz/compoundwords.htm" TargetMode="External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2.xml"/><Relationship Id="rId3" Type="http://schemas.openxmlformats.org/officeDocument/2006/relationships/slide" Target="slide88.xml"/><Relationship Id="rId4" Type="http://schemas.openxmlformats.org/officeDocument/2006/relationships/slide" Target="slide104.xml"/><Relationship Id="rId5" Type="http://schemas.openxmlformats.org/officeDocument/2006/relationships/slide" Target="slide118.xml"/><Relationship Id="rId6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837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79064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8120" y="1981080"/>
            <a:ext cx="3794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resent, pas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e saw a toy in the drive w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 saw a toy in the drivew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some 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me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poem about how spiders avoid their own sticky trap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scribe Anansi and Turtle, making sure to use at least one pair of antonyms</a:t>
                      </a:r>
                      <a:r>
                        <a:rPr b="0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small clever insect.  A spider spins long, sticky webs to trap bugs to eat.  Do you know why the spider doesn’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v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insect.  A spider spin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, sticky webs to trap bugs to eat.  Do you know why the spider doesn’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724280" y="1600200"/>
          <a:ext cx="3927600" cy="4460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entence Read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d your parents see everybody play tennis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see lots of shells wash up on the seashor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ddy keeps me company when nobody is hom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ill paint a picture at recess when I am at sch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st weekend we drove to  a faraway pla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y three teammates told me the answer after the reading tes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752480" y="3505320"/>
          <a:ext cx="6095880" cy="17348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276720" y="1523880"/>
          <a:ext cx="3047760" cy="4524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Video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rickster Tales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Story, A Story (Anansi tale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thica’s Mathshop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olktales from Afa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frican &amp; African-American Folktal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op, Look, Listen: Okey Cokey Karaoke!: Anansi, Cat, and Rat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fish in the pond yesserd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fished in the pond yesterd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will fished agen tomorro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ill fish again tomorrow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played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cleaned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xt to Tex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 monkey that tricked a hippopotamu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ake a list of animals that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unt for prey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s week we read about characters who had creative idea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19112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720" y="21715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High-Frequency Words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lphabetical Order to the Second Lett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sum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- su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, you eat it or use it all u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ur famil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 huge bowl of popcorn while we watched TV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lot of my extra time 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y homework and playing ba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4724280" y="1600200"/>
          <a:ext cx="3927600" cy="4460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basketball for his birthday last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for his birthday la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omeone will watch the sailboat near the seasho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on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will watc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lboa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a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sho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something in the treehouse by our drive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ho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y 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breakfast and they were everywhe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fas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and they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3276720" y="1523880"/>
          <a:ext cx="3047760" cy="4524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br>
              <a:rPr sz="4000"/>
            </a:b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been, finally, whatever, today, tomorrow, believe</a:t>
            </a:r>
            <a:endParaRPr b="0" i="1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____ a fish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an you ___ I got my wish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_ will I do with it?” I sa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 was a great day!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m said ____ I could go agai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he said I could ___ take my friend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f I do not take him, he will not know where I have _____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i want to do some thing fur bill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ant to do something for Bill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do you had any ideas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 you have any ideas?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ctionaries, glossaries, and names in a telephone book are all arranged in alhabetical ord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ords that begin with a come before words that begin with b, and so 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ometimes two or more words begin with the same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this happens, we alphabetize by the second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, friend, fish, spider, 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ri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pid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, where, 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pre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n animal that is hunted and killed by another animal for foo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mall fish are often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bigger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ice are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cat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, stupid, 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tupi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, tomorrow, 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, cook, 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Our Week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Creative Ideas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goo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ba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we will read about two sisters who use creative ideas to help each oth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bout a spider's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 prey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take our story tests.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Quiz # 904599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523880" y="1752480"/>
          <a:ext cx="6096240" cy="3989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8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"/>
                        </a:rPr>
                        <a:t>Cause and Effect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2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3"/>
                        </a:rPr>
                        <a:t>Kids' Africa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4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5"/>
                        </a:rPr>
                        <a:t>Explore Africa with 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6"/>
                        </a:rPr>
                        <a:t>Anansi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ream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7"/>
                        </a:rPr>
                        <a:t>A Story, A Story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8"/>
                        </a:rPr>
                        <a:t>Opposites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9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0"/>
                        </a:rPr>
                        <a:t>Squanky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1"/>
                        </a:rPr>
                        <a:t> the Tooth Taker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2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3"/>
                        </a:rPr>
                        <a:t>Quiet Quest for Opposites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4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5"/>
                        </a:rPr>
                        <a:t>Game 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6"/>
                        </a:rPr>
                        <a:t>Go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7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8"/>
                        </a:rPr>
                        <a:t>Drag and Drop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9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20"/>
                        </a:rPr>
                        <a:t>_x000b_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8" name="" descr=""/>
          <p:cNvPicPr/>
          <p:nvPr/>
        </p:nvPicPr>
        <p:blipFill>
          <a:blip r:embed="rId21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523880" y="1752480"/>
          <a:ext cx="6096240" cy="3805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0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2"/>
                        </a:rPr>
                        <a:t>Click the circle to make a compound wo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3"/>
                        </a:rPr>
                        <a:t>Get Ready to Read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4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5"/>
                        </a:rPr>
                        <a:t>Online Story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6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7"/>
                        </a:rPr>
                        <a:t>Compound Words G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8"/>
                        </a:rPr>
                        <a:t>Spiders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9"/>
                        </a:rPr>
                        <a:t>_x000b_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0"/>
                        </a:rPr>
                        <a:t>_x000b_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1" name="" descr=""/>
          <p:cNvPicPr/>
          <p:nvPr/>
        </p:nvPicPr>
        <p:blipFill>
          <a:blip r:embed="rId11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hrewd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or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very clever and smar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Dad told me to b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deciding what to do with my allowan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etective made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plan to catch the thie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–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oday we’ll learn about combining two words, such as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, to make a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To read compound words, first chunk the word into two word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Read the two words and then blend them into one word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Let’s blend this word together: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sail-boat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omeon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bedtim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nowstor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panc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mayb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dayti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upcak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li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haysta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networ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33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999933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Timer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choolyar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everyth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athtu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dro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lipsti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pla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520" y="1790640"/>
            <a:ext cx="29718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sebal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ar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ailroa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old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r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ayche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nowfl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ndlo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05160" y="179064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asho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pto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irth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eek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nt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ckya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bys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rasshopp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en you read compound words, chunk the word into two small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ead the two words and blend them into one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Let’s Talk About: Creative Ideas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t’s Talk About: Creative Ideas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179064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Student Pages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09120" y="-609480"/>
            <a:ext cx="853452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ir purse is durt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r purse is dirt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tirtle ca’nt run fas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turtle can’t run fast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Jeb bakes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tells about now.  It ends with –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baked tells about the past.  It ends with –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b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will bake tells about the future.  It begins with wi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Review Gam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179064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480" y="179064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Fill-in-the Blank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invents new kinds of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sprinkles coconu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added pineappl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will use squ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will make my own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m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y own muffins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724280" y="1600200"/>
          <a:ext cx="3927600" cy="4460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about a trickster named Anansi who gets tricked himsel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 paragraph about a time when you were shrewd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19112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someone tries to trick you or when anyone lies to you?  What is something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ries to trick you or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lies to you?  What i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948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Arial"/>
                <a:ea typeface="Arial"/>
              </a:rPr>
              <a:t>Word Reading: </a:t>
            </a:r>
            <a:br>
              <a:rPr sz="4000"/>
            </a:br>
            <a:r>
              <a:rPr b="1" i="1" lang="en-US" sz="3600" spc="-1" strike="noStrike">
                <a:solidFill>
                  <a:srgbClr val="dddddd"/>
                </a:solidFill>
                <a:latin typeface="Arial"/>
                <a:ea typeface="Arial"/>
              </a:rPr>
              <a:t>Pick out the compound words in “Mistake in the Lake.”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123720" y="2171880"/>
            <a:ext cx="533412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p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utsid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m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unchbox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unscre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alfw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omeo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752480" y="3505320"/>
          <a:ext cx="6095880" cy="17348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boas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who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rags or speaks too well of himself of hersel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girl alway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her grad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Jim says he can run faster than I can, but I think he’s just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glo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think about something you’re very satisfied with,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two farmers in the stor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hat their machines would get rid of the mi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y big brother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his team’s first win all s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nick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 - 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, you giggle or laugh in a mean 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one farmer saw the other’s mouse-catching machine, 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kid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the strange-looking ca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76720" y="1523880"/>
          <a:ext cx="3047760" cy="4524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basketball in the driveway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birthday party will be in the backya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riverbank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Big Question: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popcorn before bedtime on the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popcor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efor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dtim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o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s you read, ask yourself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ook for clue words, such as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that signal cau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hen you read a story, ask yourself questions like: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o is this story about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ere does it happe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is happening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don’t know the answer to a question, then stop the way you have been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You might need to slow dow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read more slowly, you can better understand what you are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Trickster Tal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479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ometimes characters try to trick one another to get what they want.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76720" y="1523880"/>
          <a:ext cx="3047760" cy="4524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High-Frequency Word Review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752480" y="179064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o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ro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52520" y="179064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atch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lie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nal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answer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791320"/>
            <a:ext cx="951120" cy="91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4724280" y="1600200"/>
          <a:ext cx="3927600" cy="4460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zy – not liking to work or be activ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ave – to form threads into cloth or web or to make straw into hats or baske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licious – something that tastes really go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ustice- something that is fair and righ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br>
              <a:rPr sz="4000"/>
            </a:br>
            <a:r>
              <a:rPr b="1" i="1" lang="en-US" sz="3200" spc="-1" strike="noStrike">
                <a:solidFill>
                  <a:srgbClr val="dddddd"/>
                </a:solidFill>
                <a:latin typeface="Times New Roman"/>
              </a:rPr>
              <a:t>lazy, weave, delicious, justice</a:t>
            </a:r>
            <a:endParaRPr b="0" i="1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watched Little Spider ____ a larg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felt ____, so she did not help Little Spid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ate a _____ bug that got caught in th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said, “Too bad you’re hungry, Big Spider, but that’s ____!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-22860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last week end I sent a leter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st weekend I sent a lett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my mom red a story at bed time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mom read a story at bedtime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fish now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ow. (presen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fish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futur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nother very tricky charact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nk of a time when you had a good idea and tell what happened when you used it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267080" y="563868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Yesterday Farmer Smart had a problem.  Today he finds a way to fix it.  Tomorrow he won’t have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ter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Farmer Smart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d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problem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finds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way to fix it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orrow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on’t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v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267080" y="5791320"/>
            <a:ext cx="951120" cy="91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ong o: </a:t>
            </a:r>
            <a:r>
              <a:rPr b="1" i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, oa, 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ocabular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752480" y="3505320"/>
          <a:ext cx="6095880" cy="17348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tentm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– tent – 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 feeling of being pleased or satisfi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og stretched and sighed i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fter dinner, we sat around the campfire in complet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u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you, it makes you feel better and healthy agai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medicine the doctor gave m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y r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cientists are searching for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or many different disea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incid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 – ci - 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something tha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movie had some very excit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n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om told us several funn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rom her tri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ddddd"/>
                </a:solidFill>
                <a:latin typeface="Times New Roman"/>
              </a:rPr>
              <a:t>Making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a – o</a:t>
            </a:r>
            <a:r>
              <a:rPr b="1" lang="en-US" sz="8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300" spc="-1" strike="noStrike">
                <a:solidFill>
                  <a:srgbClr val="000000"/>
                </a:solidFill>
                <a:latin typeface="Arial"/>
              </a:rPr>
              <a:t>d – g – l – m – t – w</a:t>
            </a:r>
            <a:r>
              <a:rPr b="0" lang="en-US" sz="6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276720" y="1523880"/>
          <a:ext cx="3047760" cy="4524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whatever, tomorrow, finally, believe, today, caught, been</a:t>
            </a:r>
            <a:endParaRPr b="0" i="1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Sunday morning and said, “____ I don’t have to go to school.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love all kinds of foods and will eat ____ Dad puts on my plat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o you ___ fairy tales are true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Yesterday I went fishing and ____ three fish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Thursday and said, “___ is Friday!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have ___ sick for three day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can’t wait until I’m ___ old enough to driv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freida</cp:lastModifiedBy>
  <dcterms:modified xsi:type="dcterms:W3CDTF">2008-11-28T01:45:03Z</dcterms:modified>
  <cp:revision>27</cp:revision>
  <dc:subject/>
  <dc:title>Slide 1</dc:title>
</cp:coreProperties>
</file>